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245-3B29-415C-892E-8710DC0D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C99-5AD8-4ABC-8F89-7A50C5AD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F16-29FF-42DE-AC55-8635EAB2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EA7-884E-45FD-A008-A5BF38F7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597-3A46-45C4-B777-FE31D33D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018-FCE7-4D40-B32C-BF614282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D4A-06E1-4A59-B621-8D1E9BA8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997-873A-44D5-9AF2-51743096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CF7-8225-4596-9C4A-F2639810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C35-6EC3-4D97-9506-00001E52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E48-DD09-4114-B190-A1FEB34D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B60-5813-40E0-BCEE-BAE349C0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E261-9C53-4E93-91D3-ADFE1E4F1B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8D2B-DC67-44CC-832D-E283CB8FB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-BYISV9mwo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520" y="380520"/>
            <a:ext cx="449568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Kill A Mockingbi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3920" y="2742840"/>
            <a:ext cx="3048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ckground PowerPoint and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450_mockingbird.jpg"/>
          <p:cNvPicPr/>
          <p:nvPr/>
        </p:nvPicPr>
        <p:blipFill>
          <a:blip r:embed="rId1"/>
          <a:stretch/>
        </p:blipFill>
        <p:spPr>
          <a:xfrm>
            <a:off x="4343400" y="3711600"/>
            <a:ext cx="4800600" cy="3146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mockingbird.jpg"/>
          <p:cNvPicPr/>
          <p:nvPr/>
        </p:nvPicPr>
        <p:blipFill>
          <a:blip r:embed="rId2"/>
          <a:stretch/>
        </p:blipFill>
        <p:spPr>
          <a:xfrm>
            <a:off x="0" y="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www.jpg"/>
          <p:cNvPicPr/>
          <p:nvPr/>
        </p:nvPicPr>
        <p:blipFill>
          <a:blip r:embed="rId1"/>
          <a:stretch/>
        </p:blipFill>
        <p:spPr>
          <a:xfrm>
            <a:off x="76320" y="47520"/>
            <a:ext cx="8991360" cy="66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7d4ca7fbk-americana.jpg"/>
          <p:cNvPicPr/>
          <p:nvPr/>
        </p:nvPicPr>
        <p:blipFill>
          <a:blip r:embed="rId1"/>
          <a:stretch/>
        </p:blipFill>
        <p:spPr>
          <a:xfrm>
            <a:off x="3790800" y="3352680"/>
            <a:ext cx="5353200" cy="32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ccord Heavy SF"/>
              </a:rPr>
              <a:t>Jim Crow La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partner, look over the Jim Crow Laws and put three of them into your own wor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them with the class (in your own word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 numbers 8 through 10 on your workshe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black&amp;whim.jpg"/>
          <p:cNvPicPr/>
          <p:nvPr/>
        </p:nvPicPr>
        <p:blipFill>
          <a:blip r:embed="rId2"/>
          <a:stretch/>
        </p:blipFill>
        <p:spPr>
          <a:xfrm>
            <a:off x="0" y="3352680"/>
            <a:ext cx="37339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ccord Heavy SF"/>
              </a:rPr>
              <a:t>etiqu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218960"/>
            <a:ext cx="4724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lacks were expected to refer to whites with titles of superiority like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BOS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SI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CAPTI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MIS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MRS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ites referred to blacks using derogatory terms like BOY, LADY, GIRL and the N wor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lacks were expected to lets whites walk of the sidewalk and signs reading things like “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egroes and Dogs Not Allow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 were comm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250px-1943_Colored_Waiting_Room_Sign.jpg"/>
          <p:cNvPicPr/>
          <p:nvPr/>
        </p:nvPicPr>
        <p:blipFill>
          <a:blip r:embed="rId1"/>
          <a:stretch/>
        </p:blipFill>
        <p:spPr>
          <a:xfrm>
            <a:off x="5110200" y="-36360"/>
            <a:ext cx="4033800" cy="4227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JimCrowInDurhamNC.jpg"/>
          <p:cNvPicPr/>
          <p:nvPr/>
        </p:nvPicPr>
        <p:blipFill>
          <a:blip r:embed="rId2"/>
          <a:stretch/>
        </p:blipFill>
        <p:spPr>
          <a:xfrm>
            <a:off x="5110200" y="4114800"/>
            <a:ext cx="403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ccord Heavy SF"/>
              </a:rPr>
              <a:t>Harper L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rn Nelle Harper Lee, April 28, 192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ew up during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 Great Dep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ew up in Monroeville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labam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in the heart of the South, where racial tension was hig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d was a lawy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ther’s maiden name wa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Fin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badham213.jpg"/>
          <p:cNvPicPr/>
          <p:nvPr/>
        </p:nvPicPr>
        <p:blipFill>
          <a:blip r:embed="rId1"/>
          <a:stretch/>
        </p:blipFill>
        <p:spPr>
          <a:xfrm>
            <a:off x="5943600" y="0"/>
            <a:ext cx="2973240" cy="3821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harper-lee.jpg"/>
          <p:cNvPicPr/>
          <p:nvPr/>
        </p:nvPicPr>
        <p:blipFill>
          <a:blip r:embed="rId2"/>
          <a:stretch/>
        </p:blipFill>
        <p:spPr>
          <a:xfrm>
            <a:off x="5943600" y="3200400"/>
            <a:ext cx="3033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ccord Heavy SF"/>
              </a:rPr>
              <a:t>The Scottsboro T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761760"/>
            <a:ext cx="91440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1931, a fight between white and black teen boys occurred on a train between Tennessee and Alabam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wo girls on a train, one well-known prostitute and one minor, were accused of violating the Mann Act (crossing state lines for prostitution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immediately accused all nine black men of rap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vprb.jpg"/>
          <p:cNvPicPr/>
          <p:nvPr/>
        </p:nvPicPr>
        <p:blipFill>
          <a:blip r:embed="rId1"/>
          <a:stretch/>
        </p:blipFill>
        <p:spPr>
          <a:xfrm>
            <a:off x="2247840" y="3695760"/>
            <a:ext cx="4496040" cy="30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SB_BATES.jpg"/>
          <p:cNvPicPr/>
          <p:nvPr/>
        </p:nvPicPr>
        <p:blipFill>
          <a:blip r:embed="rId2"/>
          <a:stretch/>
        </p:blipFill>
        <p:spPr>
          <a:xfrm>
            <a:off x="228600" y="3443400"/>
            <a:ext cx="1981080" cy="33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SB_PRICE.jpg"/>
          <p:cNvPicPr/>
          <p:nvPr/>
        </p:nvPicPr>
        <p:blipFill>
          <a:blip r:embed="rId3"/>
          <a:stretch/>
        </p:blipFill>
        <p:spPr>
          <a:xfrm>
            <a:off x="6781680" y="3503520"/>
            <a:ext cx="22100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ccord Heavy SF"/>
              </a:rPr>
              <a:t>The Scottsboro T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9144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ght of the nine boys were sentenced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a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spite the fact that they were not even all in the same rail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ls continued for years and only two were acquit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SCOTTS.jpg"/>
          <p:cNvPicPr/>
          <p:nvPr/>
        </p:nvPicPr>
        <p:blipFill>
          <a:blip r:embed="rId1"/>
          <a:stretch/>
        </p:blipFill>
        <p:spPr>
          <a:xfrm>
            <a:off x="3726000" y="990720"/>
            <a:ext cx="541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ccord Heavy SF"/>
              </a:rPr>
              <a:t>The Great Depr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spending in the 192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ock Market crash of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sident Franklin D. Roosevelt and the New 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rld War I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redit-cards.jpg"/>
          <p:cNvPicPr/>
          <p:nvPr/>
        </p:nvPicPr>
        <p:blipFill>
          <a:blip r:embed="rId1"/>
          <a:stretch/>
        </p:blipFill>
        <p:spPr>
          <a:xfrm>
            <a:off x="0" y="0"/>
            <a:ext cx="4343400" cy="290196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52280" y="2895480"/>
            <a:ext cx="4191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lik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Mice and M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 situation presented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inderella M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eople in Alabama suffered because of America’s econom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ccord Heavy SF"/>
              </a:rPr>
              <a:t>Racial Segreg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91404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1, 1863: Lincoln issued t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Emancipation Proclam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ich declared freedom for all slav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nded to weaken the South’s power during the U.S. Civil W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though slaves were “free,” black people were affected by state laws that prevented e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se laws were known as the Jim Crow Law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negro.bmp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wwww.jpg"/>
          <p:cNvPicPr/>
          <p:nvPr/>
        </p:nvPicPr>
        <p:blipFill>
          <a:blip r:embed="rId2"/>
          <a:stretch/>
        </p:blipFill>
        <p:spPr>
          <a:xfrm>
            <a:off x="4800600" y="377208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ttttra.bmp"/>
          <p:cNvPicPr/>
          <p:nvPr/>
        </p:nvPicPr>
        <p:blipFill>
          <a:blip r:embed="rId1"/>
          <a:stretch/>
        </p:blipFill>
        <p:spPr>
          <a:xfrm>
            <a:off x="5029200" y="-152280"/>
            <a:ext cx="4267080" cy="2716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ccord Heavy SF"/>
              </a:rPr>
              <a:t>Plessy vs. Fergu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rengthened the already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pular Jim Crow La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 1892, 30-year-ol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Homer Plessy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as jailed for sitting in a “white” section of a railroad c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lessy was 1/8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black, but under Louisiana law, he was considered “colored” and was supposed to ride in the “colored car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lessy argued that his arrest was a violation of the Constit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erguson, the judge, found Plessy GUILTY of refusing the leave the “white car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ccord Heavy SF"/>
              </a:rPr>
              <a:t>Plessy vs. Fergu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1142640"/>
            <a:ext cx="4800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an appeal, the case went to the Supreme Court, which upheld the decision and perpetuated the concept of “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eparate but equ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enable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chools, courthouses, libraries, hotels, theaters, restaurants, public transport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etc., to segregate “coloreds” from “whites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segregation.jpg"/>
          <p:cNvPicPr/>
          <p:nvPr/>
        </p:nvPicPr>
        <p:blipFill>
          <a:blip r:embed="rId1"/>
          <a:stretch/>
        </p:blipFill>
        <p:spPr>
          <a:xfrm>
            <a:off x="4811760" y="0"/>
            <a:ext cx="4390920" cy="403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segregation2.jpg"/>
          <p:cNvPicPr/>
          <p:nvPr/>
        </p:nvPicPr>
        <p:blipFill>
          <a:blip r:embed="rId2"/>
          <a:stretch/>
        </p:blipFill>
        <p:spPr>
          <a:xfrm>
            <a:off x="4811760" y="3733920"/>
            <a:ext cx="433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segregated.jpg"/>
          <p:cNvPicPr/>
          <p:nvPr/>
        </p:nvPicPr>
        <p:blipFill>
          <a:blip r:embed="rId1"/>
          <a:stretch/>
        </p:blipFill>
        <p:spPr>
          <a:xfrm>
            <a:off x="228600" y="609480"/>
            <a:ext cx="873612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ccord Heavy SF"/>
              </a:rPr>
              <a:t>Jim Crow La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erm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Jim Crow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mes from the minstrel show song “Jump Jim Crow” written in 1828 and performed by Thomas Dartmouth “Daddy” Rice, a white English migrant to the U.S. and the first popularizer of blackface perform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aricature of a shabbily dressed rural black named “Jim Crow” became a standard character i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instrel show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180px-Sich_a_Getting_Up_Stairs,_T__D__Rice.jpg"/>
          <p:cNvPicPr/>
          <p:nvPr/>
        </p:nvPicPr>
        <p:blipFill>
          <a:blip r:embed="rId1"/>
          <a:stretch/>
        </p:blipFill>
        <p:spPr>
          <a:xfrm>
            <a:off x="6095880" y="685800"/>
            <a:ext cx="28958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225px-Jimcrow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978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oons.gif"/>
          <p:cNvPicPr/>
          <p:nvPr/>
        </p:nvPicPr>
        <p:blipFill>
          <a:blip r:embed="rId2"/>
          <a:stretch/>
        </p:blipFill>
        <p:spPr>
          <a:xfrm>
            <a:off x="4314960" y="304920"/>
            <a:ext cx="4829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ccord Heavy SF"/>
              </a:rPr>
              <a:t>Jim Crow Ly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e, listen, all you girls and boys, I'm just from Tuckahoe; I'm going to sing a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heel about, and turn about, and do just so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very time I wheel about, I jump Jim Crow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ttle song, My name's Jim Cro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went down to the river, I didn't mean to stay, But there I saw so many girls, I couldn't get away. I'm roaring on the fiddle, and down in old Virginia, They say I play the scientific, like master Paganini, I cut so many monkey shines, I dance the galoppade; And when I'm done, I rest my head, on shovel, hoe or spad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met Miss Dub one day, I give her such a buss [kiss]; And then she turn and slap my face, and make a mighty fuss. The other girls they begin to fight, I told them wait a bit; I'd have them all, just one by one, as I thought fit. I whip the lion of the west, I eat the alligator; I put more water in my mouth, then boil ten loads of potatoes. The way they bake the hoe cake, Virginia never tire; They put the dough upon the foot, and stick them in the fi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im Crow So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22:57:43Z</dcterms:created>
  <dc:creator>Laura Cook</dc:creator>
  <dc:description/>
  <dc:language>en-US</dc:language>
  <cp:lastModifiedBy>Stuart White</cp:lastModifiedBy>
  <dcterms:modified xsi:type="dcterms:W3CDTF">2012-07-22T07:04:06Z</dcterms:modified>
  <cp:revision>38</cp:revision>
  <dc:subject/>
  <dc:title>To Kill A Mockingbird</dc:title>
</cp:coreProperties>
</file>